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4AE-D890-46DB-BB60-DD49C0C2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3E5-A902-4FE8-B9CF-103831EF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14F-C520-449E-8387-7E0E70ED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E58-41C5-4125-8AB2-8A7A5220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68D-7318-4C50-9721-07FC1005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BF5-799D-4006-8E38-FA323B8A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F5C-F8C6-4AE0-A6B5-8DBD2EBD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4A9-75DA-4AD9-A625-9257A7A4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055-8FE3-44CA-A648-766DDF3D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7E6-BB59-4778-985F-F0A6A883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EAA-829A-49A9-BCC3-4ED614B7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CBF-B09C-41DD-9C91-BC1619E8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0F54-C8DC-4AD8-8431-854E8C9D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EGA IBAIA KANPEZU"/>
          <p:cNvPicPr/>
          <p:nvPr/>
        </p:nvPicPr>
        <p:blipFill>
          <a:blip r:embed="rId1"/>
          <a:stretch/>
        </p:blipFill>
        <p:spPr>
          <a:xfrm>
            <a:off x="1547640" y="1916280"/>
            <a:ext cx="5904000" cy="442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132000" y="620640"/>
            <a:ext cx="2638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GA IBAI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58920" y="692280"/>
            <a:ext cx="63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TU GARRANTZITSUAK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205000"/>
            <a:ext cx="5400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Arial"/>
              </a:rPr>
              <a:t>Kokapena : Araba eta Nafarr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Arial"/>
              </a:rPr>
              <a:t>Luzera : 122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Arial"/>
              </a:rPr>
              <a:t>Arroa : 1.497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ria :13,76m³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urburua : Logran (Ar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aia ahoa : Ebrora San Adrianen(Nafarr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1:47:03Z</dcterms:created>
  <dc:creator>ikaslea14</dc:creator>
  <dc:description/>
  <dc:language>en-US</dc:language>
  <cp:lastModifiedBy>ikaslea14</cp:lastModifiedBy>
  <dcterms:modified xsi:type="dcterms:W3CDTF">2012-12-05T12:08:13Z</dcterms:modified>
  <cp:revision>2</cp:revision>
  <dc:subject/>
  <dc:title>Diapositiba 1</dc:title>
</cp:coreProperties>
</file>